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7C4-A549-4A7C-B96E-46C61726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19F-247B-444B-9A16-328E6832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8AB-E459-4AD1-AEF5-C226AC77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872-9349-46B1-8833-51603E96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59BC-5736-4052-A62D-121A8E41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C448-A55A-4B53-A41D-FC1B9980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2F16-11EE-4C6E-BFDA-94C398B8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1980-CBB4-4E1B-B162-07F4369D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CE2E-BE72-4E5C-B989-72B80D0C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4D76-1D6B-41AF-B3C2-D2C31779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33D3-ABC4-4E37-9773-2263ACA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651-D70C-48FA-A8A5-17F60B7B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050D-5465-4E23-9B0E-3FC638A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D1E2-8DE1-42C6-9367-0B162420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B89A-2E13-4765-B25C-8CEF3BC1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7C61-F13B-43B2-B672-02D245EF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34FF-75EA-41DB-9555-94A7B63C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F27-2569-4937-A204-6A635FF4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E3E-3977-4AC3-8FB5-10898DB0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B6C-3162-427F-BB03-5F247E19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C1A-B70F-4CD1-A1F7-2C611193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497-50D1-417F-A143-F1458D75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2F4-911E-4F65-A341-991EE04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045-FFFB-49C3-B256-1465A317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9469-8716-495C-BBA9-29A1064E823A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846C-574B-4B05-A1C2-7D9013F56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BA3B-DFD7-4107-BBC5-60105A370E0D}" type="datetime3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D5B9-68C7-45EF-AB7C-72798376A20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reibholz@bigfoot.com" TargetMode="External"/><Relationship Id="rId2" Type="http://schemas.openxmlformats.org/officeDocument/2006/relationships/hyperlink" Target="http://ibm.rhrz.uni-bonn.de/~uzs6pq" TargetMode="External"/><Relationship Id="rId3" Type="http://schemas.openxmlformats.org/officeDocument/2006/relationships/hyperlink" Target="http://ibm.rhrz.uni-bonn.de/~uzs6pq" TargetMode="External"/><Relationship Id="rId4" Type="http://schemas.openxmlformats.org/officeDocument/2006/relationships/hyperlink" Target="http://ibm.rhrz.uni-bonn.de/~uzs6pq" TargetMode="External"/><Relationship Id="rId5" Type="http://schemas.openxmlformats.org/officeDocument/2006/relationships/hyperlink" Target="http://ibm.rhrz.uni-bonn.de/~uzs6pq" TargetMode="External"/><Relationship Id="rId6" Type="http://schemas.openxmlformats.org/officeDocument/2006/relationships/hyperlink" Target="http://ibm.rhrz.uni-bonn.de/~uzs6pq" TargetMode="External"/><Relationship Id="rId7" Type="http://schemas.openxmlformats.org/officeDocument/2006/relationships/hyperlink" Target="http://ibm.rhrz.uni-bonn.de/~uzs6pq" TargetMode="External"/><Relationship Id="rId8" Type="http://schemas.openxmlformats.org/officeDocument/2006/relationships/hyperlink" Target="http://ibm.rhrz.uni-bonn.de/~uzs6pq" TargetMode="External"/><Relationship Id="rId9" Type="http://schemas.openxmlformats.org/officeDocument/2006/relationships/hyperlink" Target="http://ibm.rhrz.uni-bonn.de/~uzs6pq" TargetMode="External"/><Relationship Id="rId10" Type="http://schemas.openxmlformats.org/officeDocument/2006/relationships/hyperlink" Target="http://ibm.rhrz.uni-bonn.de/~uzs6pq" TargetMode="External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8502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cc00"/>
                </a:solidFill>
                <a:latin typeface="Times New Roman"/>
              </a:rPr>
              <a:t>Seminar „Fortgeschrittene Techniken der Datenbanken“, WS 1998/99</a:t>
            </a:r>
            <a:br>
              <a:rPr sz="1000"/>
            </a:b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Data Warehousing und OLAP: Cubetre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25909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Thomas Dreibhol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Dreibholz@bigfoot.co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ffffff"/>
                </a:solidFill>
                <a:latin typeface="Times New Roman"/>
              </a:rPr>
              <a:t>Folien und Ausarbeitung sind zu finden unter der UR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ibm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6"/>
              </a:rPr>
              <a:t>rhrz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7"/>
              </a:rPr>
              <a:t>.uni-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8"/>
              </a:rPr>
              <a:t>bonn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9"/>
              </a:rPr>
              <a:t>.de/~uzs6pq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10"/>
              </a:rPr>
              <a:t>V</a:t>
            </a:r>
            <a:r>
              <a:rPr b="0" lang="de-DE" sz="1500" spc="-1" strike="noStrike" u="sng">
                <a:solidFill>
                  <a:srgbClr val="ffffff"/>
                </a:solidFill>
                <a:uFillTx/>
                <a:latin typeface="Times New Roman"/>
              </a:rPr>
              <a:t>erwendete Papers:</a:t>
            </a:r>
            <a:br>
              <a:rPr sz="15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Yannis Kotidis, Nick Roussopoulos, Mema Roussopoulos: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“Cubetree: Organization of and Bulk Incremental Updates on the Data Cube”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IGMOD Conference 1997: 89-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Yannis Kotidis, Nick Roussopoulos: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“An Alternative Storage Organization for ROLAP Aggregate Views Based on Cubetrees”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IGMOD Conference 1998: 249-25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5217-F1AB-4983-B0F5-750D9A3D0167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3 Clustering (I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ort-Pack reduzi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ich überlappende Räu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nbelegte Räume (engl. dead space)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Unbelegte Räume = Große Gebiete im R-Baum mit verhältnismäßig kleinen mit Daten gefüllten Bereich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ögliche Sortierschlüssel: z.B. „A aufsteigend“, „B aufsteigend“ oder „A und B aufsteigend“ us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Cubetree AxBxC mit Sortierordnung A-&gt;B-&gt;C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  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4038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 c-W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m c-W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72D-D9EA-4679-A53A-6D672734FB35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3 Clustering (II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 Beispi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tenpunkte von AC, BC und C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gecluster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nach Dimension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roup-by BC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Für einen Attributwert B sind sämtliche Projektionen nach BC fortlaufend gespeicher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roup-by 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ist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streu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Zwischen allen aufeinanderfolgenden Paaren (p,0,0), (q,0,0) liegen Datenpunkte von AB, AC und ABC mit A=p!</a:t>
            </a:r>
            <a:br>
              <a:rPr sz="1800"/>
            </a:b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800"/>
            </a:b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9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olge: Schlechter werdende Ausführungszeiten durch weiter auseinanderliegende Datenpunkt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4267080"/>
            <a:ext cx="75960" cy="838440"/>
          </a:xfrm>
          <a:custGeom>
            <a:avLst/>
            <a:gdLst>
              <a:gd name="textAreaLeft" fmla="*/ 0 w 75960"/>
              <a:gd name="textAreaRight" fmla="*/ 27360 w 759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liegen zwischen Group-by nach A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40384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FD8-B831-4E4D-BA5D-F97D00881B86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3 Clustering (III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3712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deutlichung der Effizienzunterschiede durch Cluster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Cubetree AxBxC, symmetrisch, 32 MB Größ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ortierordnung: A-&gt;B-&gt;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rte geben das Verhältnis zum schnellsten Group-by a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1-dimensionale Group-by‘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125.0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‘s liegen sehr weit auseinander -&gt; extrem schlecht!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10.0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‘s liegen nicht so weit auseinander -&gt;</a:t>
            </a:r>
            <a:br>
              <a:rPr sz="1700"/>
            </a:b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trotzdem schlecht, da C fehlt!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 1.0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Gu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2-dimensionale Group-by‘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 2.5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Es fehlt der „least significant“-Sortierschlüssel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C   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 1.3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Gut, jedoch liegt Schlüssel B zwischen A und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 1.0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Gu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352680"/>
            <a:ext cx="381240" cy="304920"/>
          </a:xfrm>
          <a:prstGeom prst="lightningBol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B20-9369-4D54-8EC3-84B1353C407E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3 Clustering (IV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2680" y="1219320"/>
            <a:ext cx="842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50%-Gesetz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s Clusterings (engl. 50% law)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lustering nur für 50% der 2</a:t>
            </a:r>
            <a:r>
              <a:rPr b="0" lang="de-DE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1 möglichen Group-by‘s gut -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 Rest fehlt „least significant“-Sortierschlüssel =&gt; keine fortlaufende Speicherung!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Cubetree AxBxC mit Sortierordnung A-&gt;B-&gt;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east significant“-Sortierschlüssel: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1 = 7 mögliche Group-by‘s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, B, C, AB, BC, AC, A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3 Group-by‘s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ohn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„least significant“-Sortierschlüssel C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, B, 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ormale Definition für verstreutes Group-by (engl. dispersed group-by)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 Group-by g ist verstreut, wenn zur gegebenen Sortierordnung keine aufeinanderfolgenden Datenpunkte vorhanden si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3D3-1957-4AE9-A116-A3806C621C56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1 Der Dataless Cubetre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87640" y="1981080"/>
            <a:ext cx="437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Z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Verbesserung des 50%-Gesetz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eues Modell: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Dataless Cubetre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ies ist ein EDM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ohn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die Datenpunkte der Relation, besteht also nur noch aus Aggregatwerte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aum zwischen Achsen, Ebenen und Hyperebenen ist leer. Nur N der (N-1)-dim. Hyperebenen enthalten die Aggreg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lle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grega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fragen können wie auf normalem Cubetree beantwortet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zahl der verstreuten Group-by‘s ist 50% minus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58800" y="2514600"/>
          <a:ext cx="388764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2514600"/>
                    <a:ext cx="3887640" cy="296532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B11-C5B2-4D3A-BEC2-502C0D3C8C9C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2 Der Reduced Cubetre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268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 Dataless Cubetree: Nur geringe Verbesserung des 50%-Gesetz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bauend auf Dataless Cubetree: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Reduced Cubet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 (N-1)-dim. Hyperebenen orthogonal zu jeder anderen -&gt; Unabhängiges Sort-Pack jeder Hyperebene in eigenem R-Ba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In AxBx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gener R-Baum für AB, AC und 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nabhängiges Sort-Pack dieser R-Bäu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Ergebnis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eduzierter Speicherverbrauch durch Abbildung auf niedrigere Dimen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fragebearbeitung wird schnelle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gaben sind nu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Zuordnung des Group-by‘s jeder Anfrage zu einem der R-Bäu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inden einer sinnvollen Sortierordn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24D-99AA-4B04-A6BE-EC9B52D1F824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2 Clustering auf Reduced Cubetre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219320"/>
            <a:ext cx="842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ichtige Definitionen zur Betrachtung des Clustering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Das Komplement </a:t>
            </a:r>
            <a:r>
              <a:rPr b="1" i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(g) eines Group-by’s g eines gegebenen Attributraumes ist die Menge der gruppierenden Attribute, die nicht in diesem Group-by erscheinen. 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eispiel: Für AxBxC ist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AB)=C und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A)=BC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Das Komplement einer Menge von Group-by’s {g</a:t>
            </a:r>
            <a:r>
              <a:rPr b="0" i="1" lang="de-DE" sz="17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,..., g</a:t>
            </a:r>
            <a:r>
              <a:rPr b="0" i="1" lang="de-DE" sz="17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} ist die Vereinigung der Komplemente aller in der Menge vorkommenden Group-by’s. 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eispiel: Für AxBxCxDxE ist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{AB,BF})=CDE</a:t>
            </a:r>
            <a:r>
              <a:rPr b="0" lang="de-DE" sz="17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CD=ACD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Zwei Group-by’s sind kompatibel, wenn beide nicht Teilmenge des Komplementes des anderen sind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. Beispiel: Für AxBxCxDxE ist ABD kompatibel mit DE, da ABD</a:t>
            </a:r>
            <a:r>
              <a:rPr b="0" lang="de-DE" sz="17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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DE)=ABC und DE</a:t>
            </a:r>
            <a:r>
              <a:rPr b="0" lang="de-DE" sz="17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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ABC)=C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Ein Group-by ist kompatibel zu einer Menge von Group-by’s, wenn es nicht Teilmenge des Komplementes der Menge ist.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Beispiel: Für AxBxC ist AC nicht kompatibel mit {AB,BC}, da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{AB,BC})=AC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ür kompatible Menge von Group-by‘s existiert eine Sortierordnung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ohne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verstreute Group-by‘s: Alle Group-by‘s der Menge haben (mindestens ein) gemeinsames Attribut. Dieses wird der „least significant“-Sortierschlüssel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E7A-FF67-4C2C-BEB6-6D8ADD356AB3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2 Anfragen auf Reduced Cubetre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9880" y="1371600"/>
            <a:ext cx="5448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ür jede Anfrage zu entscheiden: Welcher der N R-Bäume wird zur Beantwortung benutz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 Algorithmus ist notwendig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etrachte das Gitter des Datacubes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Bild: Gitter des Datacubes AxBx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ie Knoten der Ebene 1: Group-by‘s der R-Bäu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estliche Knoten sollen nun kompatiblem R-Baum zugeordnet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Problem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Es gibt extrem viele Zuordnungs-möglichkeite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Für Dimension N:</a:t>
            </a:r>
            <a:br>
              <a:rPr sz="1700"/>
            </a:b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17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-1 Knoten =&gt; N^(2</a:t>
            </a:r>
            <a:r>
              <a:rPr b="0" lang="de-DE" sz="17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-N-1) Zuordnungen!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Einfache Suche keine Lösungsmöglichkei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ösung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Approximation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durch Greedy-Algorithm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248520" y="3095640"/>
          <a:ext cx="28940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095640"/>
                    <a:ext cx="2894040" cy="160020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E4E-C2D9-478E-8A11-B13304874D4A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2.4.2 Der AllocateLattice()-Algorithmus (I)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883720" cy="380988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// Der AllocateLattice()-Algorithm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{g</a:t>
            </a:r>
            <a:r>
              <a:rPr b="0" lang="de-DE" sz="1600" spc="-1" strike="noStrike" baseline="-10000">
                <a:solidFill>
                  <a:srgbClr val="ffffff"/>
                </a:solidFill>
                <a:latin typeface="Arial"/>
              </a:rPr>
              <a:t>1,i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} , i = 1,...,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level l = 2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N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roup-by g at level l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ind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|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compatible with g and complement(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) = Minim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found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{g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pdate complement(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ssign g to any of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that includes all the attributes of 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4880" y="5299200"/>
            <a:ext cx="71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42680" y="5105160"/>
            <a:ext cx="8667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genschaften der Zuordnung (für realistische N bis etwa 20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streute Group-by‘s werden vermie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nzahl der einem R-Baum zugeordneten Knoten ist balanci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50A-E984-48B8-BA21-D0E894C9DF7E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2680" y="5331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2.4.2 Der AllocateLattice()-Algorithmus (II)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3040" y="1523880"/>
            <a:ext cx="850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eispiel #1 zum AllocateLattice()-Algorithm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Gegeben ist ein Datacube AxBxCxD (also 4-dimens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Ausgabe von AllocateLattice():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BCD, CD, D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CD, AD, AC, A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D, BD, AB, B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C, BC, C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iese Partitionierung enthält keine verstreuten Group-by‘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eispiel #2 zum AllocateLattice()-Algorithm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Gegeben ist ein Datacube AxBxCxDxE (also 5-dimens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Ausgabe von AllocateLattice():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BCDE, CDE, DE, CE, E, </a:t>
            </a:r>
            <a:r>
              <a:rPr b="1" lang="de-DE" sz="1600" spc="-1" strike="noStrike" u="sng">
                <a:solidFill>
                  <a:srgbClr val="ffffff"/>
                </a:solidFill>
                <a:uFillTx/>
                <a:latin typeface="Times New Roman"/>
              </a:rPr>
              <a:t>C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CDE, ADE, ACE, AE, AD, AC, A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DE, BDE, ABE, ABD, AB, B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CE, BCE, ABC, BE, BC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CD, BCD, ACD, CD, BD, D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Zuordnung von Group-by C in den ersten Cubetree ist s.g. „</a:t>
            </a:r>
            <a:r>
              <a:rPr b="1" lang="de-DE" sz="1600" spc="-1" strike="noStrike">
                <a:solidFill>
                  <a:srgbClr val="ffffff"/>
                </a:solidFill>
                <a:latin typeface="Times New Roman"/>
              </a:rPr>
              <a:t>falsche Zuordnung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“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3B5-FE4A-42AB-957F-D12D5B77EFD1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420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Gliederu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. Einführung in das Data Warehou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OLTP, OLAP und Data Wareho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atenbankentwurf für das Data Warehouse: Das Stern-Sch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Beispiel für ein Data Wareho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2. Cube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Transformation von Relationen in Cube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Effiziente Speicherung durch gepackte R-Bäu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Clust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er Dataless Cubet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er Reduced Cubet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ie Auswahl einer sinnvollen Sortierordn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Effizientes Update des Cube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3. Praktischer Einsatz der Cube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Effiziente Verwaltung von Sich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Abschließender Vergleich mit konventionellen relationalen Datenbanksyste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4. Zusammenfas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9FE-6586-4F43-9E2C-B0F7633D8009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Grad des Clusterings kann jetzt durch Anzahl der falschen Zuordnungen beschrieben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 Dataless Cubetree äquivalent zum „50% minus 1“-Geset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gleich von Dataless Cubetree und Reduced Cubetre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N (Dimensionen)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Dataless Cubetree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duced Cubetre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  2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  6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14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30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62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126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lso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educed Cubetree ermöglicht deutlich besseres Clustering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2 Konsequenzen für das 50%-Gesetz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38400" y="4572000"/>
            <a:ext cx="412560" cy="595440"/>
          </a:xfrm>
          <a:prstGeom prst="downArrow">
            <a:avLst>
              <a:gd name="adj1" fmla="val 50000"/>
              <a:gd name="adj2" fmla="val 360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EBC-037A-4840-8B52-1BA2F9809D3A}" type="slidenum">
              <a:t>20</a:t>
            </a:fld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42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2.5 Auswahl einer sinnvollen Sortierordnung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innvolle Sortierordnung entscheidend für Effizienz der Anfragebearbeitung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Cubetree AxB mit Sortierordnung A-&gt;B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Clustering entlang B-Achs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Anfragen mit Group-by nach B schneller als bei Group-by nach 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lgorithmus notwendig, der für gegebene Group-by-Menge G Sortierordnung ermittelt a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Kardinalitä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(Wichtigkeit) jedes Group-by‘s g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: card(g)    (evtl. Approx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Wahrscheinlichkei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 daß eine Anfrage g 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G benutzt: prob(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42680" y="3733560"/>
            <a:ext cx="8420040" cy="243828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// Der SelectSortOrder()-Algorithm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eset a counter for each attribute appearing in 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or ever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roup-by g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or ever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rouping attribute in g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crease the corresponding counter by the value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* card(g) +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* prob(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ort counters from lower to higher val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956-5B53-477A-B852-F55A3D6DF193}" type="slidenum">
              <a:t>21</a:t>
            </a:fld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6 Effizientes Update des Cubetre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0240" y="990720"/>
            <a:ext cx="8420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 zeitkritischste Aufgabe der Cubetree-Verwal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 einzelner Einträge und kompletter Neuaufbau unmöglich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Effiziente Lösung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Bulk Incremental Up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s der Relation werden in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Update-Inkremen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dR gesammelt (z.B. Verkäufe der letzten Woch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ortierphas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dR wird sortie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Merge-Pack-Phas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Vereinigen und Packen: Der alte Cubetree wird mit dem neuen Daten zusammengepac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cubetree(R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R) = Merge-Pack(cubetree(R), Sort-Pack(dR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81080" y="4038480"/>
          <a:ext cx="58485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5848560" cy="243864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43E-D981-4665-A18F-D2D82EAD2CF6}" type="slidenum">
              <a:t>22</a:t>
            </a:fld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6 Bulk Incremental Upda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urchführung des Bulk Incremental Upda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ür jeden Cubetree Puffer im Hauptspeicher für die Projek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ür Eingabe dR Generierung aller möglichen Projektionen und Schreiben in die entsprechenden Puf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Puffer können durch Hashing vorsortiert werden =&gt; Sortierung schne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nn Puffer voll, Sortierung mit z.B. QuickSort() und Sicherung in Hintergrundspeicher (für späteres Vereinig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nn alle Updates aus dR durchgeführt wurden, Merge-Pack mit altem Cubetre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merkung: Update-Inkrement dR enthält neben Einfügungen auch Löschungen und Updates von Tupel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ominanter Kostenfaktor des Bulk Incremental Update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Kosten für die Sortierphas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D48-061A-4363-BFAD-D7DC91447CD4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6 Optimierung des Bulk Incremental Updates (I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rücksichtigung von Sättigu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Cubetree heißt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esättig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 wenn er durch Updates nicht mehr wächs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Alle neuen Projektionen fallen nur noch auf alte Datenpunk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bhängig von Daten: Ob bzw. wie schnell Cubetree gesättigt 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Cubetree für Verkäufe mit Produkt, Filiale und Tag. Maximal 500 Tag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Überschreiben des ältesten Eintrages mit dem aktuellen.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Sättigung nach 500 Tag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Im gesättigten Cubetree: Merge-Pack-Kosten konstan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zelne Bereiche können schon vorher gesättigt sei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eitere Optimierungsmöglichkei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chnelles Sortieren durch Aufteilung und Parallelisierung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Sortierdauer = Sortierzeit für größte Part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chreiben des neuen Cubetrees in einen neuen Speicherbereich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OLAP während des Updates möglich. Aber: doppelter Speicherplatzbedarf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897-D88F-4ADC-AC96-F461D4653E37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6 Optimierung des Bulk Incremental Updates (II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gabe des Administrators: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Kontrolle der Größe von dR durch geeignete Update-Intervall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Problem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ehr großer Cubetree und kleines d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Update erforderlich für OLAP </a:t>
            </a:r>
            <a:br>
              <a:rPr sz="1800"/>
            </a:b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Update mit Verkäufen der letzten Woch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Daten werden für OLAP-Anwendungen benötig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Update muß durchgeführt werde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s über Batch-Transaktione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Update erforderlich, um Transaktion zu bestätigen</a:t>
            </a:r>
            <a:br>
              <a:rPr sz="1800"/>
            </a:b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gang der Verkaufsdaten einzelner  Filialen über Internet-Transaktione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Erfolg der Transaktion muß bestätigt werden könne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Update muß durchgeführt werde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237-D6EA-47A9-8428-2132E180E5CD}" type="slidenum">
              <a:t>25</a:t>
            </a:fld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268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3.1 Materialisierung verschiedener Sichten (I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2680" y="137124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In der Praxis sinnvoll: Materialisierung verschiedener Sichten (engl. views)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r gleiche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Relation zur effizienteren Anfragebearb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ünschenswert: Speicherung unterschiedlicher Sichten im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gleiche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Cubetr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9880" y="2437920"/>
            <a:ext cx="8502840" cy="358164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: 3 verschiedene Sichten für das Data Warehouse aus Kapitel 1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Schlüssel, KundenSchlüssel,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u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Anzah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Verkäu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Schlüsssel, KundenSchlüssel;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.Typ,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u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Anzah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Verkäufe, Produ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Verkäufe.ProduktSchlüssel = Produkt.ProduktSchlüs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.Typ;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Schlüssel, KundenSchlüssel, ZeitSchlüssel,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u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Anzah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Verkäu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Schlüsssel, KundenSchlüssel, ZeitSchlüsse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A1B-1FDE-4480-A2A6-CD3FCD278058}" type="slidenum">
              <a:t>26</a:t>
            </a:fld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cc00"/>
                </a:solidFill>
                <a:latin typeface="Times New Roman"/>
              </a:rPr>
              <a:t>3.1 Materialisierung verschiedener Sichten (II)</a:t>
            </a:r>
            <a:endParaRPr b="0" lang="en-US" sz="3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2680" y="13712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m Beispiel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Abbildung der 3 Sichten auf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einen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3-dim. R-Baum R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{x,y,z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Tupel t aus 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-&gt;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x-Koordinate = ProduktSchlü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y-Koordinate = KundenSchlü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z-Koordinate = ZeitSchlüs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Tupel t aus 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-&gt;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x-Koordinate = ProduktSchlü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y-Koordinate = KundenSchlü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z-Koordinate = </a:t>
            </a:r>
            <a:r>
              <a:rPr b="0" lang="de-DE" sz="1600" spc="-1" strike="noStrike" u="sng">
                <a:solidFill>
                  <a:srgbClr val="ffffff"/>
                </a:solidFill>
                <a:uFillTx/>
                <a:latin typeface="Times New Roman"/>
              </a:rPr>
              <a:t>Nu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Tupel t aus 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-&gt;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x-Koordinate = Produkt.Typ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y-Koordinate = </a:t>
            </a:r>
            <a:r>
              <a:rPr b="0" lang="de-DE" sz="1600" spc="-1" strike="noStrike" u="sng">
                <a:solidFill>
                  <a:srgbClr val="ffffff"/>
                </a:solidFill>
                <a:uFillTx/>
                <a:latin typeface="Times New Roman"/>
              </a:rPr>
              <a:t>Nul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z-Koordinate = </a:t>
            </a:r>
            <a:r>
              <a:rPr b="0" lang="de-DE" sz="1600" spc="-1" strike="noStrike" u="sng">
                <a:solidFill>
                  <a:srgbClr val="ffffff"/>
                </a:solidFill>
                <a:uFillTx/>
                <a:latin typeface="Times New Roman"/>
              </a:rPr>
              <a:t>Nu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Jede Sicht belegt eigenen Raum im Cubet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r gleiche Cubetree speichert Aggregatdaten unterschiedlicher Attribute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x-Achse enthält in V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Produkt.Typ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, in V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und V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ProduktSchlüssel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tei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eringerer Speicherplatzbeda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essere Ausnutzung des C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1F4-5CAC-4A22-ACDA-515C0CF9A819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cc00"/>
                </a:solidFill>
                <a:latin typeface="Times New Roman"/>
              </a:rPr>
              <a:t>3.1 Materialisierung verschiedener Sichten (III)</a:t>
            </a:r>
            <a:endParaRPr b="0" lang="en-US" sz="3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268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llgemeiner Fall:</a:t>
            </a:r>
            <a:br>
              <a:rPr sz="20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Zuordnung einer Menge von Sichten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{V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...,V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} zu einer Menge von Cubetrees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{R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...,R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}; R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{x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...,x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max[i]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}, Sortierordnung: x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max[i]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&gt;...-&gt; x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finitione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Times New Roman"/>
              </a:rPr>
              <a:t>Projektionsliste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einer Sicht V: Liste aller Attribute der Fakten- und Dimensionstabellen, die durch die Sicht projiziert werden</a:t>
            </a:r>
            <a:br>
              <a:rPr sz="1800"/>
            </a:b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Notation: V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{Projektionsliste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Times New Roman"/>
              </a:rPr>
              <a:t>Arität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einer Sicht V: Anzahl der Elemente der Projektionsliste von V</a:t>
            </a:r>
            <a:br>
              <a:rPr sz="1800"/>
            </a:b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Notation: |V|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Times New Roman"/>
              </a:rPr>
              <a:t>Gültige Zuordnung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einer Sicht V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{a1,...,am}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nach R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{x,y,z,...}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Transformation jedes Tupels t aus V zu Datenpunkt in R mit a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als x-Koordinate, a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als y-Koordinate usw. und </a:t>
            </a:r>
            <a:r>
              <a:rPr b="0" i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ll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für unbenutzte Koordinat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SelectMapping()-Algorithmus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ordnet Sichten den Cubetrees so zu, daß keine zwei Sichten gleicher Arität den gleichen Cubetree benutz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D7D-5164-43DF-9598-651129B97A5C}" type="slidenum">
              <a:t>28</a:t>
            </a:fld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3.1 Der SelectMapping()-Algorithmus (I)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8502480" cy="487656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// Der SelectMapping(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={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,...,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})-Algorithm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maxArity = max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Vi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|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|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itialize sets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, i=1,...,maxA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// Gruppierung der Sichten nach ihrer Arität, d.h. alle Sichten mit Arität 1 in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us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|Vi|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|Vi|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{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400" spc="-1" strike="noStrike" baseline="-10000">
                <a:solidFill>
                  <a:srgbClr val="ffffff"/>
                </a:solidFill>
                <a:latin typeface="Arial"/>
              </a:rPr>
              <a:t>i=1,...,maxArity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// Berechnung der maximalen Arität der noch nicht zugeordneten Sich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arity = max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Si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reate new R-tree R</a:t>
            </a:r>
            <a:r>
              <a:rPr b="0" lang="de-DE" sz="1400" spc="-1" strike="noStrike" baseline="-10000">
                <a:solidFill>
                  <a:srgbClr val="ffffff"/>
                </a:solidFill>
                <a:latin typeface="Arial"/>
              </a:rPr>
              <a:t>{x1,x2,...,x[arity]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// Eine Sicht aus jeder Menge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wählen und R zuordn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j=1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arity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tract a view V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from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Map V to 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A69-22F9-4717-8370-C6A338F0275F}" type="slidenum">
              <a:t>29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42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1.1 Einführung in das Data Warehous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OLTP (On-Line Transaction Process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ealisiert „operationales Tagesgeschäft“ eines Unternehm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eispiel: Buchung eines Fluges oder Bearbeitung einer Bestell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Zugriff auf begrenzten, relativ kleinen Teil der Datenbank; dieser muß jedoch immer aktuell se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OLAP (On-Line Analytical Process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trategischen Unternehmensplanung =&gt; Auswertung großer Datenbestä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Welches Produkt hat sich in welcher Filiale wann besonders gut verkauft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Wie hat sich die Auslastung eines Fluges über einen bestimmten Zeitraum entwickelt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nterschiedliche Datenbestände für OLAP und OLTP. Grün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OLTP für Änderungstransaktionen optimiert, verteilt über mehrere Datenbank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OLAP erfordert Daten in konsolidierter, integrierter 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Sehr komplexe Anfragen =&gt; würden OLTP-Transaktionen stark beeinträcht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eshalb: Aufbau eines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Data Warehous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 in dem alle Daten gesammelt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EEE-0C60-471B-892C-0C1E25B80364}" type="slidenum">
              <a:t>3</a:t>
            </a:fld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3.1 Der SelectMapping()-Algorithmus (II)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2680" y="1219320"/>
            <a:ext cx="842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olgende Zuordnungen wären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theoretisch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denkb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ür jede Sicht ein eigener Cubetree =&gt; sehr schnelle Anfragebearb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 Cubetree für alle Sichten =&gt; sehr geringer Speicherplatzbeda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 der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axis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jedoc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electMapping()-Algorithmus liefert guten Kompromiß zwisc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rad des Clusterings innerhalb jedes Cubetre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peicherbedarf für die Cubetre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ffizientes Sort-P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chnelle Anfragebearb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itere Vorteile des SelectMapping()-Algorithm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zahl der R-Bäume minimal unter Bedingung, jede einzelne Sicht in einem eigenen, fortlaufenden Teil des Baumes zu Speicher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gutes Clustering bei geringem Speicherplatzbeda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itere Optimierungsmöglichkeit: Kompression der Null-Koordina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enaue Analyse in der Praxis: siehe Pap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CE0-2A68-46F7-BE1B-5A5515A87A4D}" type="slidenum">
              <a:t>30</a:t>
            </a:fld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2680" y="533160"/>
            <a:ext cx="8420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3.2 Vergleich mit konventionellen relationalen Datenbanksysteme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besserung der Effizienz gegenüber konventionellen relationalen Datenbanksystemen  im Praxiseinsatz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peicherplatz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   2 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fragen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 10 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s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100 : 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Genauere Analyse: siehe Pap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B45-7A6C-43A9-8DF2-BC76F83340B7}" type="slidenum">
              <a:t>31</a:t>
            </a:fld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4. Zusammenfassu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LAP =&gt; Data Warehouses =&gt; Datacub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ffiziente Speicherung in Cubetrees durch gepackte R-Bä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lustering der Group-by‘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ataless Cubetree: Weglassen der Datenpunkte der Re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educed Cubetree: Unabhängiges Sort-Pack der N (N-1)-dimensionalen Hyperebenen in N verschiedenen R-Bäu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llocateLattice(): Zuordnung jedes Group-by‘s zu einem der N R-Bä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lectSortOrder(): Finden einer sinnvollen Sortierordn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ulk Incremental Updates einzige Möglichkeit zum effizienten Update, Optimierungen durch Größe von dR und Berücksichtigung von Sättig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ffiziente Verwaltung mehrerer Sichten durch Verwendung des SelectMapping()-Algorithm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rreichte Verbesserungen: Speicher 2 : 1, Anfragen: 10 : 1, Updates: 100 :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B6B-2BEF-4B62-9347-D49267135939}" type="slidenum">
              <a:t>32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1.2 Architekturen für Data Warehouse-System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wei konkurrierende Architekturen für Data Warehou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MOLA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peicherung in speziellen, mehrdimensionalen Datenstruktu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fachster Fall: Mehrdimensionales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Problem: Dünn besetzte Dimensione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OLA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ta Warehouse-System auf Basis einer relationalen Datenb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ntertyp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ystem ist Front-End auf relationaler Datenb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ta Warehouse-System mit relationaler Benutzerschnittstell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elche der beiden Architekturen sich durchsetzen wird, ist derzeit noch nicht abseh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7B8-6B6D-4090-A68C-52B5CEB7210F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1.3 Datenbankentwurf für das Data Warehous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219320"/>
            <a:ext cx="4133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tern-Schem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eine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Faktentabelle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(z.B. Verkäufe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mehrere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Dimensionstabellen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(z.B. Produkte, Filialen und Zeit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Dimensionstabellen über Fremdschlüsselbeziehungen mit der Faktentabelle verbunde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In der Prax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Faktentabelle enthält oft viele Millionen Tup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Dimensionstabellen wesentlich kleiner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Größenordnungen für Data Warehouses: Viele Gigabytes bis einige Terabytes!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ta Warehouse für Verkäu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219320"/>
            <a:ext cx="4133880" cy="495288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mensionstabelle: Produk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Produkt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Ty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Herstell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mensionstabelle: Kun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Kunden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Adres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mensionstabelle: Ze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Zeit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Uhrzei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Datum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Sais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aktentabelle: Verkäu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Produkt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Kunden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Zeit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791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248-4928-4A33-8F16-07DDD04C0227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1.3 Drill-Down und Roll-Up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198144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// Wieviel Drucker wurden pro Jahr und Hersteller verkauft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Jahr, Hersteller, </a:t>
            </a: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sum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(Anzahl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Verkäufe v, Produkte p, Zeit z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 v.ProduktSchlüssel = p.ProduktSchlüssel </a:t>
            </a: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v.ZeitSchlüssel = z.ZeitSchlüssel </a:t>
            </a: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p.Typ = ‚Drucker‘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p.Hersteller, z.Jahr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580920"/>
            <a:ext cx="847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terpretation der Daten erst durch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rdichtung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sinnv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ispiel: Wieviel Drucker wurden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 Jahr und Hersteller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verkauf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 SQL: Auswahl des Verdichtungsgrades durch 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group by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Klaus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Drill-Dow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Mehr Attribute in 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group by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Klausel: Weniger starke Verdichtung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mehr Tupel als Ergeb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Roll-Up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Weniger Attribute in 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group by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Klausel: Stärkere Verdichtung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weniger Tupel als Ergeb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AF8-C2BD-4399-BB92-F938AC8BD325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1 Transformation von Relationen in Cubetrees (I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eicherung des Data Warehouse in relationaler DB sehr ineffizien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=&gt; Verwendung von Datacub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Formale Definition eines Datacube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: Redundante, mehrdimensionale Projektion von Relationen, bei der alle möglichen Operatoren und Aggregate in einen N-dimensionalen Raum abgebildet werden</a:t>
            </a:r>
            <a:br>
              <a:rPr sz="2000"/>
            </a:b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R(A,B,C,Q) (A-C: gruppierende Attribute, Q Maßattrib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, B, C bilden Achsen des Würfels AxBx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Tupel T(a,b,c,q) -&gt; Datenpunkt O(a,b,c) mit Inhalt 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ggregierung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aller Unterräume durch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ggregatfunk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Unterraum S</a:t>
            </a:r>
            <a:r>
              <a:rPr b="1" lang="de-DE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Group-by nach allen S</a:t>
            </a:r>
            <a:r>
              <a:rPr b="0" lang="de-DE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entsprechenden Attribu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ggregatwert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Im Schnittpunkt von S</a:t>
            </a:r>
            <a:r>
              <a:rPr b="0" lang="de-DE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mit orthogonalen restlichen Dimens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Punkt O(0,...,0)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Aggregatwert von Group-by nach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keine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Attribu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eses Modell bezeichnen wir als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xtended Datacube Model (ED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412-145E-466C-A8CD-967003238AD0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1 Transformation von Relationen in Cubetrees (II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62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3D-Datacube über Verkäufe mit Dimensionen A: Kunden, B: Produkte, C: Z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roup-by nach Kunden und Produkte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Geraden senkrecht zur Kunden/Produkte-Ebene; jeder Punkt der Geraden steht für einen Verkauf des Produktes an den Kunden (oberes Bil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 fester Punkt auf der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Achse ist Summe über alle Produkte b und Zeitpunkte c der Inhalte O(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b,c) (senkrecht zu A durch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verlaufende Ebene, unteres Bild)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Nullpunk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Gesamtzahl aller Verkäu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638680" y="4191120"/>
          <a:ext cx="3467160" cy="19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5638680" y="4191120"/>
                    <a:ext cx="3467160" cy="192852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638680" y="1981080"/>
          <a:ext cx="346716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981080"/>
                    <a:ext cx="3467160" cy="205740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AAC-DCD4-4052-B859-64437FBF6F63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2 Effiziente Speicherung durch gepackte R-Bäum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R-Bau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mehrdimensionaler Baum mit folgenden Eigenschaft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leibt bei Einfügungen und Löschungen balancie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Jeder Schlüssel in einem Blatt ist Sammlung von Intervallen (ein Intervall pro Dimens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icht-Blatt-Knoten decken alle Intervalle der Söhne 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lle Blätter haben gleichen Abstand zur Wurz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lle Knoten können (mit Ausnahme der Wurzel) zu 50% gefüllt gehalten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35320" y="16765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fügen einzelner Einträge sehr langsam und zerstört Clustering (dt. Ballung) der Daten =&gt; Verwendung von s.g. gepackten R-Bäum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epackter R-Bau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bjekte werden zuerst in einer sinnvollen Ordnung sortie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nach wird R-Baum mit Sortierergebnis neu aufgeba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ieses Verfahren heißt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ort-Pack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weitere Informationen zu R-Bäumen: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“Multidimensional Indexing – The R-Tree” http://www.cs.wisc.edu/~dbbook/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slides/psslides/mod711.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58672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679-B914-4AB0-8130-A0694A83BD2C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7T15:27:46Z</dcterms:created>
  <dc:creator>Thomas Dreibholz</dc:creator>
  <dc:description>Seminar "Fortgeschrittene Techniken der Datenbanken", WS 1998/99
</dc:description>
  <cp:keywords>OLAP Cubetree Folien</cp:keywords>
  <dc:language>en-US</dc:language>
  <cp:lastModifiedBy>Thomas Dreibholz</cp:lastModifiedBy>
  <cp:lastPrinted>1999-01-25T18:49:00Z</cp:lastPrinted>
  <dcterms:modified xsi:type="dcterms:W3CDTF">1999-02-14T10:12:30Z</dcterms:modified>
  <cp:revision>123</cp:revision>
  <dc:subject>Informationssysteme</dc:subject>
  <dc:title>Data Warehousing und OLAP: Cubetree</dc:title>
</cp:coreProperties>
</file>